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3.png" ContentType="image/png"/>
  <Override PartName="/ppt/media/image12.gif" ContentType="image/gif"/>
  <Override PartName="/ppt/media/image17.jpeg" ContentType="image/jpeg"/>
  <Override PartName="/ppt/media/image26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5.png" ContentType="image/png"/>
  <Override PartName="/ppt/media/image30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28.jpeg" ContentType="image/jpeg"/>
  <Override PartName="/ppt/media/image19.png" ContentType="image/png"/>
  <Override PartName="/ppt/media/image20.wmf" ContentType="image/x-wmf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0963-E88F-455E-AC72-6A2B7A7E35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DA80-17D8-492C-8776-0B2E3A9B32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трасли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7E29-D3FC-416C-B8EB-8007E5707E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Публичное и частно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44EB-C85E-4CE0-A4F7-31FB1164FA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те структурные элементы норм пра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и с российским избирательным законодательством граждане Российской Федерации, достигшие 18 лет, имеют право избирать; лица, препятствующие осуществлению этого права, привлекаются к административной или уголовной ответственности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71E6-4E5C-4981-86DA-D27C6E63FF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те структурные элементы норм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 соответствии с российским избирательным законодательством 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граждане Российской Федер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достигшие 18 лет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имеют право избира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лица, препятствующие осуществлению этого права, привлекаются к административной или уголовной ответственност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8196-A8E7-48F9-B2D5-25421AFA18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ыделите структурные элементы норм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ние признаётся совершённым невиновно, если лицо, его совершившее, не осознавало и по обстоятельствам дела не могло осознавать общественной опасности своих действий (бездействия) либо не предвидело возможности наступления общественно опасных последствий и по обстоятельствам дела не должно было или не могло их предвидеть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C26B-E9FC-403B-807F-0B2020C5DF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ыделите структурные элементы норм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Деяние признаётся совершённым невиновно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, если лицо, его совершившее, не осознавало и по обстоятельствам дела не могло осознавать общественной опасности своих действий (бездействия) либо не предвидело возможности наступления общественно опасных последств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и по обстоятельствам дела не должно было или не могло их предвидеть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557D-07AE-4DE0-9992-5171ECC434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ивая спиртные напитки в городском парке, группа лиц нарушала общественный порядок. Они приставали к прохожим, мусорили, нецензурно выражалис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пределите вид правонаруше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роанализируйте наличие состава правонару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пределите форму в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10BE-75D7-4CD4-AB2B-9C0A3F66FD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1.Однородность фактического содерж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ждый институт регулирует самостоятельную групп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ношений и поступков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2.Юридическое единство правовых но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рмы, входящие в конкретный институт образуют ед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ый комплекс положений, принципов,понятий,право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жим регул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3.Нормативная обособл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особление норм образующих институт в главах, разд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ах и частях закона, или нормативно-правового а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4.Полнота регулируем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ститут права включает набор норм, призванный обес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чить беспробельность регулируемых отно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F305-476B-4985-8D00-430D959AE1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EF0B-FDE4-4E94-807C-FF4C8F5AA7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Норма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1222-627C-479D-8772-F57D9FEF55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1. Понятие системы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2. Отрасли права. Материальное и 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3.Публичное и частно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8346-11F8-4066-8D05-099E8641E3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Норма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направлено на урегулирование общественны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становленное и обеспечиваемое государ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щеобязательное правило пове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формально определ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редоставительно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язывающи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0820-51C2-4769-AB79-0527EB786C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Виды юридических нор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1. Регулятивные и правоохранительны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Регулятивные  нормы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определяющие субъективные права и обязанности субъектов, условия их возникновения и 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Собственнику принадлежат права владения, пользование и распоряжение своим имуществом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К РФ п.1 Ст. 2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- Правоохранительные нормы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определяют условия применения к субъекту мер государственно-принудительного воздействия, характер и содержание этих мер.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ража, т.е. тайное хищение чужого имущества, - наказывается штрафом в размере от 200 до 700 МРОТ…» (УК РФ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.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т. 5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95C8-3F25-4CDB-BD7E-B28E363F83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Управомочивающие, запрещающ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обязывающ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Управомочивающие нормы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редоставляют субъекту право с положительным содержанием, т.е. право на совершение им тех  или иных действи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бственник вправе по своему усмотрению совершать в отношении принадлежащего ему имущества любые действия, не противоречащие закону…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К РФ п. 2 Ст. 2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Запрещающие нормы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станавливает обязанность субъекта на воздержание от  совершения действий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упруги по своему желанию выбирают при заключении брака фамилию…. Соединение фамилии не допускается, если добрачная фамилия хотя бы одного из супругов является двойной.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К РФ п. 1 Ст. 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Обязывающие нормы</a:t>
            </a:r>
            <a:r>
              <a:rPr b="1" i="1" lang="ru-RU" sz="12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 возлагает на субъекта обязанность совершать определенные 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E588-4969-4341-A49B-7FEBE0382B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3. Императивные и диспозитивные нор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Императивная норм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– это норма, выраженная  в категорических предписаниях и действует независимо от усмотрения субъ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делки с землей и другим недвижимым имуществом подлежат государственной регистрации.» (ГК РФ п. 1 Ст.16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Диспозитивная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-   действует лишь постольку, поскольку субъекты не предусмотрели и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амена предмета залога допускается с согласия залогодержателя, если законом или договором не предусмотрено иное.» (ГК РФ п. 1 Ст. 34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аконным режимом имущества супругов является режим их совместной собственности. Законный режим имущества супругов действует, если брачным договором не установлено иное.» (СК РФ п. 1 Ст. 3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9AE7-143E-4368-9724-C0B5AD1886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истема норм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ервичным элементом выступают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нормы права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, которые объединяются в более крупные образования – институты, подотрасли, отра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имеет объективный характер, т.к. зависит от объективно существующих общественных отношений, которые призвана регулиро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лементы системы взаимосвязаны, согласованы, что обеспечивает целостность и еди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условлена социально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кономическими, политическими, национальными, культурными и пр. факто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E6C5-F0F8-41C8-84EC-1D61E46E0E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системы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ъективно существующее, внут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ннее строение права, его подраз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еление на отрасли, подотрасл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нституты и 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66"/>
                </a:solidFill>
                <a:latin typeface="Book Antiqua"/>
              </a:rPr>
              <a:t>Система права включ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1.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Элемент системы права. Существу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не обособленно, а в зависимости 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предназначения объединяются в и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ституты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2.Институ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Основной элемент системы права,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представленный совокупност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правовых норм,регулирующих од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нородную группу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059D-10EF-487A-A180-1B554A66F9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системы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4.Подотрас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Объединение нескольких институ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одной и той же отрасли пра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Конституционное право (муниципаль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ное, избирательное, парламентско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3.Отрас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Основное подразделение системы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права.Совокупность норм,распр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деленная по правовым института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регулирующих особую область от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но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Подотрасли права не являются обязательным компонентом отраслей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(Семейное, процессуальное право на подотрасли не делятс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B58D-2145-442D-A0C0-90BC5A2EBE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системы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троение отрасли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Impact"/>
              </a:rPr>
              <a:t>общая</a:t>
            </a:r>
            <a:r>
              <a:rPr b="1" lang="ru-RU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Impact"/>
              </a:rPr>
              <a:t>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ы права, которые распространя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се отношения, регулируемые дан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ю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особенная 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ы права, которые распространя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онкретные отношения, регулируе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й отраслью пра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истема права характеризу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-взаимозависимостью и связью правовых но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-регулирует отношения всей совокупностью юр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дических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-целостностью и согласован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A313-302A-4146-B3A3-2B471BB1F4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Материальное право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совокупность  норм, закрепляющих существующие общественные отношения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имущественны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- семейны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- трудовые и проч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(Граждан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Трудов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роцессуальное прав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ru-RU" sz="11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совокупность норм, определяющих порядок осуществления норм материального пра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ача 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роки рассмот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ава ист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ава ответч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рассмотрения дела и п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Гражданск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овно-процессуальн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AC39-BE80-4610-AC9E-06D15508F1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трасли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FA3F-B329-4C78-A0A2-69840C84BB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4DDD-BAA2-4CF7-8C40-490FC5F9D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E28A-F218-4C89-9758-2275E90B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EA84-F6D9-45D5-A92E-173AA4E67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FB65-F7ED-4F03-AFFD-EABABA609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7514-F3B1-4AE6-9D6F-7A73CE65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019B-5499-437E-9C40-610CD448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4DA7-CB04-4FFB-BE7E-5A9CC46F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5B1B-0C3B-4808-A56F-77CD9E67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5708-CBA6-4094-BAF2-60AE55E9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6106-EEBC-4A17-B1CA-C15A01CC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2E14-20A2-4D48-AA4C-E6FF18AA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BC91-162E-441A-B487-9A7F2E58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4861-ECA5-4C0D-8382-A498D99F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6F6A-7870-4740-8D9A-2B0A4873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8D85-8168-470A-ADF9-5C6AE6DF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1B6D-3FA3-4AF9-B0C4-358EF72A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6DAF-C026-408A-A80E-B1D36ECC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845EB-0CC4-4FF0-A727-46BD978F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24743-92CA-4467-8490-98DE641E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533EA-0023-4477-971E-379FB85F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A6BD6-A624-4B5F-A443-804E6076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E09B3-6D0C-4A86-9FC8-079B1552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19AE-8D66-4310-BDB2-6F59B9D9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05C60-F4D1-405B-9F8D-BF8D93EF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3F282-DB1C-4891-B50B-1FDB380E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666C0-65F4-4146-841B-9B5E9B98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F8340-3064-4F8F-9981-BE20DB15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E1B13-EF21-4B2A-9D89-113ED11A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F1FC3-84E2-45D7-A727-7665349D0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56F4C-202A-4F46-A570-A96A6120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80481-62FE-4764-AE4F-A4EC037A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4221F-9588-440B-8F4F-FE44EDFB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30C65-9C52-4B34-99EE-55500FAE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F5FE-23A7-45C9-A571-3B2D312C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0D844-0EBD-46A2-A2D8-03022C5A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7BFD0-529E-4C2E-802F-A869FD7C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08F12-B4D2-45D1-A8B3-E39169AF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EC0E4-3CFC-4C5F-AD9B-B25A4137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37E6B-4131-4394-BD81-FB543A24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FB5F3-92F5-4838-9683-EE4759C9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8EB60-7B53-4D04-830F-2EDD4F3C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CDEDF-B977-4AF2-A16F-8AE1A37A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E11B8-5B1C-4759-9915-1B3DEE9A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A290C-A243-44DB-AB3E-49E02D1A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3478-1FED-4986-AB4F-8D0340D4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2078D-8DF6-4C31-8690-7B1D2C18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6D179-94C3-42BF-9153-0E2544B1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EA821-2F15-4015-AB59-7D8703F9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49540-CABE-4507-8C27-B7196C95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2A3FB-EEE1-43A7-A1E8-34200F1B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8B902-FA8D-4994-8294-B6D4AAD2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411E4-0741-4327-A470-087CDF49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4CEE3-1255-4020-BD67-44B60522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B2336-2BF7-4E0D-B1C1-354E409B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B3CEE-D658-47A8-A34A-A6E87DC7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B4AF-506A-4391-9D67-1B540688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F382F-EF9F-4292-B2FE-85F91146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35036-531A-479D-B325-21370367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233ED-F596-4C83-9825-B12DB2F5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BB06D-E7AC-4962-831E-74806FE8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4EA68-B8BC-40A4-BEB0-933D1002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A971F-07BF-44A0-A047-1FA73DDA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FAA8D-90B0-4185-809E-D4A4B4D6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236FE-E888-4D45-9F4A-E1871ACD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A9E55-838B-477C-B1D8-79E5D8F8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A543F-AB7A-4822-80B1-9524DB61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31A8-EB35-4AC0-94F2-554CEBD9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C22A6-4C08-4909-8FF0-CF6D4961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F0DBB-9A3D-4563-A018-7D6A13A5E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00BC8-2CF7-4988-ADB3-6F43AC4D5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1C62-1B7E-4929-ADDC-856842B5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06D1-CAF8-41E3-BC82-98839765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A2B0-FA5E-4D01-9D23-BCBA9223788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57C6-2227-40FF-8DC7-0A3E58E519D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D865-5FF4-4C51-ABDD-A469DD0D494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7AB0-E799-48EB-BCB0-813DB471306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1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1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5E34-FECF-41B1-A42B-C22EE408882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6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8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69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2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3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41DE-8CDA-425C-B78C-566102D6898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image" Target="../media/image15.jpe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image" Target="../media/image28.jpeg"/><Relationship Id="rId6" Type="http://schemas.openxmlformats.org/officeDocument/2006/relationships/image" Target="../media/image10.jpeg"/><Relationship Id="rId7" Type="http://schemas.openxmlformats.org/officeDocument/2006/relationships/slide" Target="slide5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jpeg"/><Relationship Id="rId3" Type="http://schemas.openxmlformats.org/officeDocument/2006/relationships/image" Target="../media/image15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7"/>
          <p:cNvSpPr txBox="1"/>
          <p:nvPr/>
        </p:nvSpPr>
        <p:spPr>
          <a:xfrm>
            <a:off x="395280" y="2205000"/>
            <a:ext cx="50403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Систе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пра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219240" y="-231840"/>
            <a:ext cx="8943840" cy="150012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3"/>
          <p:cNvSpPr/>
          <p:nvPr/>
        </p:nvSpPr>
        <p:spPr>
          <a:xfrm>
            <a:off x="324000" y="765000"/>
            <a:ext cx="4248000" cy="719280"/>
          </a:xfrm>
          <a:prstGeom prst="downArrowCallout">
            <a:avLst>
              <a:gd name="adj1" fmla="val 147661"/>
              <a:gd name="adj2" fmla="val 147648"/>
              <a:gd name="adj3" fmla="val 16667"/>
              <a:gd name="adj4" fmla="val 66667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териальные отрас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AutoShape 4"/>
          <p:cNvSpPr/>
          <p:nvPr/>
        </p:nvSpPr>
        <p:spPr>
          <a:xfrm>
            <a:off x="4643280" y="765000"/>
            <a:ext cx="4248360" cy="719280"/>
          </a:xfrm>
          <a:prstGeom prst="downArrowCallout">
            <a:avLst>
              <a:gd name="adj1" fmla="val 147674"/>
              <a:gd name="adj2" fmla="val 147660"/>
              <a:gd name="adj3" fmla="val 16667"/>
              <a:gd name="adj4" fmla="val 66667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цессуальные отрас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179280" y="155736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озяйствен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179280" y="207648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льскохозяйствен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179280" y="2597040"/>
            <a:ext cx="3456000" cy="43200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оргов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179280" y="3116160"/>
            <a:ext cx="3456000" cy="43200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Жилищ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WordArt 12"/>
          <p:cNvSpPr txBox="1"/>
          <p:nvPr/>
        </p:nvSpPr>
        <p:spPr>
          <a:xfrm rot="5400000">
            <a:off x="2446920" y="3346920"/>
            <a:ext cx="424980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Комплексны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8" name="Rectangle 22"/>
          <p:cNvSpPr/>
          <p:nvPr/>
        </p:nvSpPr>
        <p:spPr>
          <a:xfrm>
            <a:off x="179280" y="363708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уницип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Rectangle 23"/>
          <p:cNvSpPr/>
          <p:nvPr/>
        </p:nvSpPr>
        <p:spPr>
          <a:xfrm>
            <a:off x="179280" y="415620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курорского надзо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4"/>
          <p:cNvSpPr/>
          <p:nvPr/>
        </p:nvSpPr>
        <p:spPr>
          <a:xfrm>
            <a:off x="179280" y="465300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ждан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25"/>
          <p:cNvSpPr/>
          <p:nvPr/>
        </p:nvSpPr>
        <p:spPr>
          <a:xfrm>
            <a:off x="179280" y="573408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ждан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27"/>
          <p:cNvSpPr/>
          <p:nvPr/>
        </p:nvSpPr>
        <p:spPr>
          <a:xfrm>
            <a:off x="179280" y="467676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аможен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28"/>
          <p:cNvSpPr/>
          <p:nvPr/>
        </p:nvSpPr>
        <p:spPr>
          <a:xfrm>
            <a:off x="179280" y="5716440"/>
            <a:ext cx="3456000" cy="43200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родоохраните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29"/>
          <p:cNvSpPr/>
          <p:nvPr/>
        </p:nvSpPr>
        <p:spPr>
          <a:xfrm>
            <a:off x="179280" y="519588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кологиче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0"/>
          <p:cNvSpPr/>
          <p:nvPr/>
        </p:nvSpPr>
        <p:spPr>
          <a:xfrm>
            <a:off x="179280" y="623736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р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18"/>
          <p:cNvGrpSpPr/>
          <p:nvPr/>
        </p:nvGrpSpPr>
        <p:grpSpPr>
          <a:xfrm>
            <a:off x="3510720" y="765000"/>
            <a:ext cx="1694160" cy="1246320"/>
            <a:chOff x="3510720" y="765000"/>
            <a:chExt cx="1694160" cy="1246320"/>
          </a:xfrm>
        </p:grpSpPr>
        <p:pic>
          <p:nvPicPr>
            <p:cNvPr id="419" name="Picture 16" descr="j0231057"/>
            <p:cNvPicPr/>
            <p:nvPr/>
          </p:nvPicPr>
          <p:blipFill>
            <a:blip r:embed="rId2"/>
            <a:stretch/>
          </p:blipFill>
          <p:spPr>
            <a:xfrm>
              <a:off x="3922560" y="765000"/>
              <a:ext cx="871560" cy="9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Text Box 17"/>
            <p:cNvSpPr/>
            <p:nvPr/>
          </p:nvSpPr>
          <p:spPr>
            <a:xfrm>
              <a:off x="3510720" y="1643040"/>
              <a:ext cx="169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ccff"/>
                  </a:solidFill>
                  <a:latin typeface="Tahoma"/>
                </a:rPr>
                <a:t>Древний Рим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1" name="WordArt 19"/>
          <p:cNvSpPr txBox="1"/>
          <p:nvPr/>
        </p:nvSpPr>
        <p:spPr>
          <a:xfrm>
            <a:off x="3645000" y="2060640"/>
            <a:ext cx="137160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право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grpSp>
        <p:nvGrpSpPr>
          <p:cNvPr id="422" name="Group 25"/>
          <p:cNvGrpSpPr/>
          <p:nvPr/>
        </p:nvGrpSpPr>
        <p:grpSpPr>
          <a:xfrm>
            <a:off x="5090400" y="1052640"/>
            <a:ext cx="3166200" cy="1346040"/>
            <a:chOff x="5090400" y="1052640"/>
            <a:chExt cx="3166200" cy="1346040"/>
          </a:xfrm>
        </p:grpSpPr>
        <p:sp>
          <p:nvSpPr>
            <p:cNvPr id="423" name="WordArt 21"/>
            <p:cNvSpPr txBox="1"/>
            <p:nvPr/>
          </p:nvSpPr>
          <p:spPr>
            <a:xfrm>
              <a:off x="5722920" y="1052640"/>
              <a:ext cx="25336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Публичное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424" name="AutoShape 22"/>
            <p:cNvSpPr/>
            <p:nvPr/>
          </p:nvSpPr>
          <p:spPr>
            <a:xfrm rot="19959600">
              <a:off x="5087880" y="1846080"/>
              <a:ext cx="1224000" cy="287280"/>
            </a:xfrm>
            <a:custGeom>
              <a:avLst/>
              <a:gdLst>
                <a:gd name="textAreaLeft" fmla="*/ 214200 w 1224000"/>
                <a:gd name="textAreaRight" fmla="*/ 887400 w 122400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5" name="Group 24"/>
          <p:cNvGrpSpPr/>
          <p:nvPr/>
        </p:nvGrpSpPr>
        <p:grpSpPr>
          <a:xfrm>
            <a:off x="971640" y="1052640"/>
            <a:ext cx="2601000" cy="1344240"/>
            <a:chOff x="971640" y="1052640"/>
            <a:chExt cx="2601000" cy="1344240"/>
          </a:xfrm>
        </p:grpSpPr>
        <p:sp>
          <p:nvSpPr>
            <p:cNvPr id="426" name="WordArt 20"/>
            <p:cNvSpPr txBox="1"/>
            <p:nvPr/>
          </p:nvSpPr>
          <p:spPr>
            <a:xfrm>
              <a:off x="971640" y="1052640"/>
              <a:ext cx="186696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Частное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427" name="AutoShape 23"/>
            <p:cNvSpPr/>
            <p:nvPr/>
          </p:nvSpPr>
          <p:spPr>
            <a:xfrm flipH="1" rot="1640400">
              <a:off x="2350440" y="1844280"/>
              <a:ext cx="1224000" cy="287280"/>
            </a:xfrm>
            <a:custGeom>
              <a:avLst/>
              <a:gdLst>
                <a:gd name="textAreaLeft" fmla="*/ 214200 w 1224000"/>
                <a:gd name="textAreaRight" fmla="*/ 887400 w 122400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8" name="Text Box 26"/>
          <p:cNvSpPr/>
          <p:nvPr/>
        </p:nvSpPr>
        <p:spPr>
          <a:xfrm>
            <a:off x="6364440" y="1557360"/>
            <a:ext cx="277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носится к положени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осудар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Text Box 27"/>
          <p:cNvSpPr/>
          <p:nvPr/>
        </p:nvSpPr>
        <p:spPr>
          <a:xfrm>
            <a:off x="179280" y="16430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носится к польз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астных лиц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28"/>
          <p:cNvSpPr/>
          <p:nvPr/>
        </p:nvSpPr>
        <p:spPr>
          <a:xfrm>
            <a:off x="58680" y="2789280"/>
            <a:ext cx="4489200" cy="1465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-это право, защищающее интерес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лица в его взаимоотношениях 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государством, регулирует сферы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в которые вмешательство госу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дарства ограниченн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Rectangle 29"/>
          <p:cNvSpPr/>
          <p:nvPr/>
        </p:nvSpPr>
        <p:spPr>
          <a:xfrm>
            <a:off x="4525920" y="2781360"/>
            <a:ext cx="4618080" cy="1465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- это право, регулирующее отноше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ния между государством и гражда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нами. Стороны в этих отношения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выступают как неравноправны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WordArt 30"/>
          <p:cNvSpPr txBox="1"/>
          <p:nvPr/>
        </p:nvSpPr>
        <p:spPr>
          <a:xfrm>
            <a:off x="324000" y="4365720"/>
            <a:ext cx="3924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Область свободы,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децентрализации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33" name="WordArt 31"/>
          <p:cNvSpPr txBox="1"/>
          <p:nvPr/>
        </p:nvSpPr>
        <p:spPr>
          <a:xfrm>
            <a:off x="4680000" y="4365720"/>
            <a:ext cx="4213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Область необходимости,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империтивных начал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434" name="Group 34"/>
          <p:cNvGrpSpPr/>
          <p:nvPr/>
        </p:nvGrpSpPr>
        <p:grpSpPr>
          <a:xfrm>
            <a:off x="898560" y="5516640"/>
            <a:ext cx="7561080" cy="1152360"/>
            <a:chOff x="898560" y="5516640"/>
            <a:chExt cx="7561080" cy="1152360"/>
          </a:xfrm>
        </p:grpSpPr>
        <p:sp>
          <p:nvSpPr>
            <p:cNvPr id="435" name="WordArt 32"/>
            <p:cNvSpPr txBox="1"/>
            <p:nvPr/>
          </p:nvSpPr>
          <p:spPr>
            <a:xfrm>
              <a:off x="954000" y="6097680"/>
              <a:ext cx="744876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660033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latin typeface="Impact"/>
                </a:rPr>
                <a:t>Взаимосвязаны, четкой границы нет</a:t>
              </a:r>
              <a:endParaRPr b="0" lang="en-US" sz="1800" spc="1" strike="noStrike">
                <a:ln w="9360">
                  <a:solidFill>
                    <a:srgbClr val="660033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Impact"/>
                <a:ea typeface="Impact"/>
              </a:endParaRPr>
            </a:p>
          </p:txBody>
        </p:sp>
        <p:sp>
          <p:nvSpPr>
            <p:cNvPr id="436" name="AutoShape 33"/>
            <p:cNvSpPr/>
            <p:nvPr/>
          </p:nvSpPr>
          <p:spPr>
            <a:xfrm>
              <a:off x="898560" y="5516640"/>
              <a:ext cx="7561080" cy="504720"/>
            </a:xfrm>
            <a:prstGeom prst="downArrowCallout">
              <a:avLst>
                <a:gd name="adj1" fmla="val 67697"/>
                <a:gd name="adj2" fmla="val 77539"/>
                <a:gd name="adj3" fmla="val 26731"/>
                <a:gd name="adj4" fmla="val 49056"/>
              </a:avLst>
            </a:prstGeom>
            <a:solidFill>
              <a:srgbClr val="ff33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37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9"/>
          <p:cNvSpPr/>
          <p:nvPr/>
        </p:nvSpPr>
        <p:spPr>
          <a:xfrm>
            <a:off x="250920" y="1557360"/>
            <a:ext cx="8064360" cy="374472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468360" y="1628640"/>
            <a:ext cx="7704000" cy="40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Tahoma"/>
              </a:rPr>
              <a:t>Выделите структурные элементы норм прав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соответствии с российским избирательным законодательством граждане Российской Федерации, достигшие 18 лет, имеют право избирать; лица, препятствующие осуществлению этого права, привлекаются к административной или уголовной ответственности»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395280" y="5661000"/>
            <a:ext cx="172872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оте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Rectangle 7"/>
          <p:cNvSpPr/>
          <p:nvPr/>
        </p:nvSpPr>
        <p:spPr>
          <a:xfrm>
            <a:off x="4284720" y="5661000"/>
            <a:ext cx="1728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нк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Rectangle 8"/>
          <p:cNvSpPr/>
          <p:nvPr/>
        </p:nvSpPr>
        <p:spPr>
          <a:xfrm>
            <a:off x="2340000" y="5661000"/>
            <a:ext cx="1728720" cy="504720"/>
          </a:xfrm>
          <a:prstGeom prst="rect">
            <a:avLst/>
          </a:pr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пози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10"/>
          <p:cNvSpPr/>
          <p:nvPr/>
        </p:nvSpPr>
        <p:spPr>
          <a:xfrm>
            <a:off x="39528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(гипотеза)..., то (диспозиция)..., иначе (санкция)...”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250920" y="1557360"/>
            <a:ext cx="8064360" cy="374472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468360" y="1628640"/>
            <a:ext cx="7343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В соответствии с российским избирательным законодательством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граждане Российской Федераци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достигшие 18 лет,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56c7aa"/>
                </a:solidFill>
                <a:latin typeface="Tahoma"/>
              </a:rPr>
              <a:t>имеют право избира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лица, препятствующие осуществлению этого права, привлекаются к административной или уголовной ответственности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395280" y="5661000"/>
            <a:ext cx="172872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оте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4211640" y="5661000"/>
            <a:ext cx="1728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нк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2268360" y="5661000"/>
            <a:ext cx="1729080" cy="504720"/>
          </a:xfrm>
          <a:prstGeom prst="rect">
            <a:avLst/>
          </a:pr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пози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Text Box 9"/>
          <p:cNvSpPr/>
          <p:nvPr/>
        </p:nvSpPr>
        <p:spPr>
          <a:xfrm>
            <a:off x="39528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(гипотеза)..., то (диспозиция)..., иначе (санкция)...”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2" name="Rectangle 10" descr=""/>
          <p:cNvPicPr/>
          <p:nvPr/>
        </p:nvPicPr>
        <p:blipFill>
          <a:blip r:embed="rId1"/>
          <a:stretch/>
        </p:blipFill>
        <p:spPr>
          <a:xfrm>
            <a:off x="1779480" y="4127400"/>
            <a:ext cx="6907320" cy="1895400"/>
          </a:xfrm>
          <a:prstGeom prst="rect">
            <a:avLst/>
          </a:prstGeom>
          <a:ln w="0">
            <a:noFill/>
          </a:ln>
        </p:spPr>
      </p:pic>
      <p:sp>
        <p:nvSpPr>
          <p:cNvPr id="453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2"/>
          <p:cNvSpPr/>
          <p:nvPr/>
        </p:nvSpPr>
        <p:spPr>
          <a:xfrm>
            <a:off x="324000" y="1557360"/>
            <a:ext cx="8351640" cy="367200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395280" y="170352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еяние признаётся совершённым невиновно, если лицо, его совершившее, не осознавало и по обстоятельствам дела не могло осознавать общественной опасности своих действий (бездействия) либо не предвидело возможности наступления общественно опасных последствий и по обстоятельствам дела не должно было или не могло их предвидет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6" name="Rectangle 13" descr=""/>
          <p:cNvPicPr/>
          <p:nvPr/>
        </p:nvPicPr>
        <p:blipFill>
          <a:blip r:embed="rId1"/>
          <a:stretch/>
        </p:blipFill>
        <p:spPr>
          <a:xfrm>
            <a:off x="1792440" y="4187880"/>
            <a:ext cx="6771960" cy="151776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14"/>
          <p:cNvSpPr/>
          <p:nvPr/>
        </p:nvSpPr>
        <p:spPr>
          <a:xfrm>
            <a:off x="395280" y="5661000"/>
            <a:ext cx="172872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оте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Rectangle 15"/>
          <p:cNvSpPr/>
          <p:nvPr/>
        </p:nvSpPr>
        <p:spPr>
          <a:xfrm>
            <a:off x="4284720" y="5661000"/>
            <a:ext cx="1728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нк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Rectangle 16"/>
          <p:cNvSpPr/>
          <p:nvPr/>
        </p:nvSpPr>
        <p:spPr>
          <a:xfrm>
            <a:off x="2340000" y="5661000"/>
            <a:ext cx="1728720" cy="504720"/>
          </a:xfrm>
          <a:prstGeom prst="rect">
            <a:avLst/>
          </a:pr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пози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Text Box 17"/>
          <p:cNvSpPr/>
          <p:nvPr/>
        </p:nvSpPr>
        <p:spPr>
          <a:xfrm>
            <a:off x="39528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(гипотеза)..., то (диспозиция)..., иначе (санкция)...”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324000" y="1557360"/>
            <a:ext cx="8351640" cy="367200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39528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(гипотеза)..., то (диспозиция)..., иначе (санкция)...”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468360" y="170028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ahoma"/>
              </a:rPr>
              <a:t>Деяние признаётся совершённым невиновно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, если лицо, его совершившее, не осознавало и по обстоятельствам дела не могло осознавать общественной опасности своих действий (бездействия) либо не предвидело возможности наступления общественно опасных последствий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56c7aa"/>
                </a:solidFill>
                <a:latin typeface="Tahoma"/>
              </a:rPr>
              <a:t>и по обстоятельствам дела не должно было или не могло их предвидет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395280" y="5661000"/>
            <a:ext cx="172872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оте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2340000" y="5661000"/>
            <a:ext cx="1728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нк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Rectangle 7"/>
          <p:cNvSpPr/>
          <p:nvPr/>
        </p:nvSpPr>
        <p:spPr>
          <a:xfrm>
            <a:off x="4356000" y="5661000"/>
            <a:ext cx="1728720" cy="504720"/>
          </a:xfrm>
          <a:prstGeom prst="rect">
            <a:avLst/>
          </a:pr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пози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8" name="Rectangle 8" descr=""/>
          <p:cNvPicPr/>
          <p:nvPr/>
        </p:nvPicPr>
        <p:blipFill>
          <a:blip r:embed="rId1"/>
          <a:stretch/>
        </p:blipFill>
        <p:spPr>
          <a:xfrm>
            <a:off x="1792440" y="4187880"/>
            <a:ext cx="6771960" cy="1517760"/>
          </a:xfrm>
          <a:prstGeom prst="rect">
            <a:avLst/>
          </a:prstGeom>
          <a:ln w="0">
            <a:noFill/>
          </a:ln>
        </p:spPr>
      </p:pic>
      <p:sp>
        <p:nvSpPr>
          <p:cNvPr id="469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Распивая спиртные напитки в городском парке, группа лиц нарушала общественный порядок. Они приставали к прохожим, мусорили, нецензурно выражались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1. Определите вид правонарушения,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2. Проанализируйте наличие состава правонарушения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3. Определите форму вины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WordArt 11"/>
          <p:cNvSpPr txBox="1"/>
          <p:nvPr/>
        </p:nvSpPr>
        <p:spPr>
          <a:xfrm>
            <a:off x="1047600" y="735120"/>
            <a:ext cx="7048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cffcc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войства правового института</a:t>
            </a:r>
            <a:endParaRPr b="1" lang="en-US" sz="1800" spc="1" strike="noStrike">
              <a:ln w="28440">
                <a:solidFill>
                  <a:srgbClr val="ccffcc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473" name="Group 23"/>
          <p:cNvGrpSpPr/>
          <p:nvPr/>
        </p:nvGrpSpPr>
        <p:grpSpPr>
          <a:xfrm>
            <a:off x="598680" y="1268280"/>
            <a:ext cx="7848000" cy="1206720"/>
            <a:chOff x="598680" y="1268280"/>
            <a:chExt cx="7848000" cy="1206720"/>
          </a:xfrm>
        </p:grpSpPr>
        <p:sp>
          <p:nvSpPr>
            <p:cNvPr id="474" name="WordArt 12"/>
            <p:cNvSpPr txBox="1"/>
            <p:nvPr/>
          </p:nvSpPr>
          <p:spPr>
            <a:xfrm>
              <a:off x="625320" y="1268280"/>
              <a:ext cx="77932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latin typeface="Impact"/>
                </a:rPr>
                <a:t>1.Однородность фактического содержания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75" name="Text Box 16"/>
            <p:cNvSpPr/>
            <p:nvPr/>
          </p:nvSpPr>
          <p:spPr>
            <a:xfrm>
              <a:off x="598680" y="1649520"/>
              <a:ext cx="784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аждый институт регулирует самостоятельную группу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тношений и поступков людей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6" name="Group 18"/>
          <p:cNvGrpSpPr/>
          <p:nvPr/>
        </p:nvGrpSpPr>
        <p:grpSpPr>
          <a:xfrm>
            <a:off x="603360" y="2349360"/>
            <a:ext cx="8182440" cy="1672200"/>
            <a:chOff x="603360" y="2349360"/>
            <a:chExt cx="8182440" cy="1672200"/>
          </a:xfrm>
        </p:grpSpPr>
        <p:sp>
          <p:nvSpPr>
            <p:cNvPr id="477" name="WordArt 13"/>
            <p:cNvSpPr txBox="1"/>
            <p:nvPr/>
          </p:nvSpPr>
          <p:spPr>
            <a:xfrm>
              <a:off x="603360" y="2349360"/>
              <a:ext cx="779292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latin typeface="Impact"/>
                </a:rPr>
                <a:t>2.Юридическое единство правовых норм.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78" name="Text Box 17"/>
            <p:cNvSpPr/>
            <p:nvPr/>
          </p:nvSpPr>
          <p:spPr>
            <a:xfrm>
              <a:off x="687960" y="2830320"/>
              <a:ext cx="8097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ормы, входящие в конкретный институт образуют еди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ый комплекс положений, принципов,понятий,правовой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жим регулирования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9" name="Group 20"/>
          <p:cNvGrpSpPr/>
          <p:nvPr/>
        </p:nvGrpSpPr>
        <p:grpSpPr>
          <a:xfrm>
            <a:off x="568440" y="3975120"/>
            <a:ext cx="8105400" cy="1257480"/>
            <a:chOff x="568440" y="3975120"/>
            <a:chExt cx="8105400" cy="1257480"/>
          </a:xfrm>
        </p:grpSpPr>
        <p:sp>
          <p:nvSpPr>
            <p:cNvPr id="480" name="WordArt 14"/>
            <p:cNvSpPr txBox="1"/>
            <p:nvPr/>
          </p:nvSpPr>
          <p:spPr>
            <a:xfrm>
              <a:off x="587160" y="3975120"/>
              <a:ext cx="77932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latin typeface="Impact"/>
                </a:rPr>
                <a:t>3.Нормативная обособленность.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81" name="Text Box 19"/>
            <p:cNvSpPr/>
            <p:nvPr/>
          </p:nvSpPr>
          <p:spPr>
            <a:xfrm>
              <a:off x="568440" y="4407120"/>
              <a:ext cx="810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бособление норм образующих институт в главах, разде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ах и частях закона, или нормативно-правового акта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2" name="Group 22"/>
          <p:cNvGrpSpPr/>
          <p:nvPr/>
        </p:nvGrpSpPr>
        <p:grpSpPr>
          <a:xfrm>
            <a:off x="587520" y="5229360"/>
            <a:ext cx="8224920" cy="1257120"/>
            <a:chOff x="587520" y="5229360"/>
            <a:chExt cx="8224920" cy="1257120"/>
          </a:xfrm>
        </p:grpSpPr>
        <p:sp>
          <p:nvSpPr>
            <p:cNvPr id="483" name="WordArt 15"/>
            <p:cNvSpPr txBox="1"/>
            <p:nvPr/>
          </p:nvSpPr>
          <p:spPr>
            <a:xfrm>
              <a:off x="587520" y="5229360"/>
              <a:ext cx="779292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latin typeface="Impact"/>
                </a:rPr>
                <a:t>4.Полнота регулируемых отношений.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84" name="Text Box 21"/>
            <p:cNvSpPr/>
            <p:nvPr/>
          </p:nvSpPr>
          <p:spPr>
            <a:xfrm>
              <a:off x="700920" y="5661000"/>
              <a:ext cx="8111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нститут права включает набор норм, призванный обес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ечить беспробельность регулируемых отношений.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85" name="Rectangle 25" descr=""/>
          <p:cNvPicPr/>
          <p:nvPr/>
        </p:nvPicPr>
        <p:blipFill>
          <a:blip r:embed="rId3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486" name="Місце для нижнього колонтитула 5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488" name="WordArt 3"/>
          <p:cNvSpPr txBox="1"/>
          <p:nvPr/>
        </p:nvSpPr>
        <p:spPr>
          <a:xfrm>
            <a:off x="1047600" y="735120"/>
            <a:ext cx="7048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50000">
                      <a:srgbClr val="765e2f"/>
                    </a:gs>
                    <a:gs pos="100000">
                      <a:srgbClr val="ffcc66"/>
                    </a:gs>
                  </a:gsLst>
                  <a:lin ang="5400000"/>
                </a:gradFill>
                <a:latin typeface="Arial"/>
              </a:rPr>
              <a:t>Виды институтов прав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50000">
                    <a:srgbClr val="765e2f"/>
                  </a:gs>
                  <a:gs pos="100000">
                    <a:srgbClr val="ffcc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489" name="Group 23"/>
          <p:cNvGrpSpPr/>
          <p:nvPr/>
        </p:nvGrpSpPr>
        <p:grpSpPr>
          <a:xfrm>
            <a:off x="257040" y="1197000"/>
            <a:ext cx="4243680" cy="1977840"/>
            <a:chOff x="257040" y="1197000"/>
            <a:chExt cx="4243680" cy="1977840"/>
          </a:xfrm>
        </p:grpSpPr>
        <p:grpSp>
          <p:nvGrpSpPr>
            <p:cNvPr id="490" name="Group 20"/>
            <p:cNvGrpSpPr/>
            <p:nvPr/>
          </p:nvGrpSpPr>
          <p:grpSpPr>
            <a:xfrm>
              <a:off x="900000" y="1197000"/>
              <a:ext cx="3600720" cy="1219320"/>
              <a:chOff x="900000" y="1197000"/>
              <a:chExt cx="3600720" cy="1219320"/>
            </a:xfrm>
          </p:grpSpPr>
          <p:sp>
            <p:nvSpPr>
              <p:cNvPr id="491" name="WordArt 16"/>
              <p:cNvSpPr txBox="1"/>
              <p:nvPr/>
            </p:nvSpPr>
            <p:spPr>
              <a:xfrm>
                <a:off x="900000" y="1844640"/>
                <a:ext cx="1819440" cy="571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800000"/>
                      </a:solidFill>
                      <a:miter/>
                    </a:ln>
                    <a:blipFill rotWithShape="0">
                      <a:blip r:embed="rId2"/>
                      <a:srcRect/>
                      <a:stretch/>
                    </a:blipFill>
                    <a:latin typeface="Impact"/>
                  </a:rPr>
                  <a:t>простые</a:t>
                </a:r>
                <a:endParaRPr b="1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latin typeface="Impact"/>
                  <a:ea typeface="Impact"/>
                </a:endParaRPr>
              </a:p>
            </p:txBody>
          </p:sp>
          <p:sp>
            <p:nvSpPr>
              <p:cNvPr id="492" name="Line 18"/>
              <p:cNvSpPr/>
              <p:nvPr/>
            </p:nvSpPr>
            <p:spPr>
              <a:xfrm flipH="1">
                <a:off x="2843280" y="1197000"/>
                <a:ext cx="1657440" cy="863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3" name="Text Box 22"/>
            <p:cNvSpPr/>
            <p:nvPr/>
          </p:nvSpPr>
          <p:spPr>
            <a:xfrm>
              <a:off x="257040" y="2349360"/>
              <a:ext cx="301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Юридические  нормы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дной отрасли прав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4" name="Group 25"/>
          <p:cNvGrpSpPr/>
          <p:nvPr/>
        </p:nvGrpSpPr>
        <p:grpSpPr>
          <a:xfrm>
            <a:off x="4572000" y="1197000"/>
            <a:ext cx="4593960" cy="2362680"/>
            <a:chOff x="4572000" y="1197000"/>
            <a:chExt cx="4593960" cy="2362680"/>
          </a:xfrm>
        </p:grpSpPr>
        <p:grpSp>
          <p:nvGrpSpPr>
            <p:cNvPr id="495" name="Group 21"/>
            <p:cNvGrpSpPr/>
            <p:nvPr/>
          </p:nvGrpSpPr>
          <p:grpSpPr>
            <a:xfrm>
              <a:off x="4572000" y="1197000"/>
              <a:ext cx="3887640" cy="1174680"/>
              <a:chOff x="4572000" y="1197000"/>
              <a:chExt cx="3887640" cy="1174680"/>
            </a:xfrm>
          </p:grpSpPr>
          <p:sp>
            <p:nvSpPr>
              <p:cNvPr id="496" name="WordArt 17"/>
              <p:cNvSpPr txBox="1"/>
              <p:nvPr/>
            </p:nvSpPr>
            <p:spPr>
              <a:xfrm>
                <a:off x="6372360" y="1889280"/>
                <a:ext cx="2087280" cy="482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2844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  <a:latin typeface="Arial"/>
                  </a:rPr>
                  <a:t>сложные</a:t>
                </a:r>
                <a:endPara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  <a:ea typeface="Arial"/>
                </a:endParaRPr>
              </a:p>
            </p:txBody>
          </p:sp>
          <p:sp>
            <p:nvSpPr>
              <p:cNvPr id="497" name="Line 19"/>
              <p:cNvSpPr/>
              <p:nvPr/>
            </p:nvSpPr>
            <p:spPr>
              <a:xfrm>
                <a:off x="4572000" y="1197000"/>
                <a:ext cx="1657440" cy="863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8" name="Text Box 24"/>
            <p:cNvSpPr/>
            <p:nvPr/>
          </p:nvSpPr>
          <p:spPr>
            <a:xfrm>
              <a:off x="5367240" y="2368440"/>
              <a:ext cx="379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овокупность норм ,входя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щих в состав различных от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слей права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9" name="Text Box 26"/>
          <p:cNvSpPr/>
          <p:nvPr/>
        </p:nvSpPr>
        <p:spPr>
          <a:xfrm>
            <a:off x="30240" y="3357720"/>
            <a:ext cx="3531960" cy="119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Институт прекращения бра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(семейное право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Институт залог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(гражданское право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Text Box 27"/>
          <p:cNvSpPr/>
          <p:nvPr/>
        </p:nvSpPr>
        <p:spPr>
          <a:xfrm>
            <a:off x="5525640" y="3645000"/>
            <a:ext cx="3574800" cy="916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Институт собствен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(гражданское, семейное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нституционное право и др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1" name="Group 32"/>
          <p:cNvGrpSpPr/>
          <p:nvPr/>
        </p:nvGrpSpPr>
        <p:grpSpPr>
          <a:xfrm>
            <a:off x="2124000" y="3284640"/>
            <a:ext cx="5105520" cy="1942920"/>
            <a:chOff x="2124000" y="3284640"/>
            <a:chExt cx="5105520" cy="1942920"/>
          </a:xfrm>
        </p:grpSpPr>
        <p:sp>
          <p:nvSpPr>
            <p:cNvPr id="502" name="WordArt 28"/>
            <p:cNvSpPr txBox="1"/>
            <p:nvPr/>
          </p:nvSpPr>
          <p:spPr>
            <a:xfrm>
              <a:off x="2124000" y="4724280"/>
              <a:ext cx="51055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включает субинституты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503" name="AutoShape 31"/>
            <p:cNvSpPr/>
            <p:nvPr/>
          </p:nvSpPr>
          <p:spPr>
            <a:xfrm rot="10800000">
              <a:off x="4427280" y="3284640"/>
              <a:ext cx="1081080" cy="1224000"/>
            </a:xfrm>
            <a:custGeom>
              <a:avLst/>
              <a:gdLst>
                <a:gd name="textAreaLeft" fmla="*/ 0 w 1081080"/>
                <a:gd name="textAreaRight" fmla="*/ 927360 w 1081080"/>
                <a:gd name="textAreaTop" fmla="*/ 816120 h 1224000"/>
                <a:gd name="textAreaBottom" fmla="*/ 122436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cc00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4" name="WordArt 33"/>
          <p:cNvSpPr txBox="1"/>
          <p:nvPr/>
        </p:nvSpPr>
        <p:spPr>
          <a:xfrm>
            <a:off x="2833560" y="5200560"/>
            <a:ext cx="3610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Институт ренты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grpSp>
        <p:nvGrpSpPr>
          <p:cNvPr id="505" name="Group 36"/>
          <p:cNvGrpSpPr/>
          <p:nvPr/>
        </p:nvGrpSpPr>
        <p:grpSpPr>
          <a:xfrm>
            <a:off x="288000" y="5749920"/>
            <a:ext cx="8531640" cy="916920"/>
            <a:chOff x="288000" y="5749920"/>
            <a:chExt cx="8531640" cy="916920"/>
          </a:xfrm>
        </p:grpSpPr>
        <p:sp>
          <p:nvSpPr>
            <p:cNvPr id="506" name="Text Box 34"/>
            <p:cNvSpPr/>
            <p:nvPr/>
          </p:nvSpPr>
          <p:spPr>
            <a:xfrm>
              <a:off x="288000" y="5749920"/>
              <a:ext cx="4940280" cy="9169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-Постоянная рента,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-Пожизненная рента,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-Пожизненное содержание с иждивением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WordArt 35"/>
            <p:cNvSpPr txBox="1"/>
            <p:nvPr/>
          </p:nvSpPr>
          <p:spPr>
            <a:xfrm>
              <a:off x="5533560" y="5965920"/>
              <a:ext cx="32860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cc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убинституты</a:t>
              </a:r>
              <a:endParaRPr b="1" lang="en-US" sz="1800" spc="1" strike="noStrike">
                <a:ln w="28440">
                  <a:solidFill>
                    <a:srgbClr val="cc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08" name="AutoShape 38">
            <a:hlinkClick r:id="rId7" action="ppaction://hlinksldjump"/>
          </p:cNvPr>
          <p:cNvSpPr/>
          <p:nvPr/>
        </p:nvSpPr>
        <p:spPr>
          <a:xfrm>
            <a:off x="6877080" y="5300640"/>
            <a:ext cx="1079640" cy="504720"/>
          </a:xfrm>
          <a:custGeom>
            <a:avLst/>
            <a:gdLst>
              <a:gd name="textAreaLeft" fmla="*/ 32400 w 1079640"/>
              <a:gd name="textAreaRight" fmla="*/ 1047240 w 107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6187" h="21600">
                <a:moveTo>
                  <a:pt x="0" y="0"/>
                </a:moveTo>
                <a:lnTo>
                  <a:pt x="46187" y="0"/>
                </a:lnTo>
                <a:lnTo>
                  <a:pt x="46187" y="21600"/>
                </a:lnTo>
                <a:lnTo>
                  <a:pt x="0" y="21600"/>
                </a:lnTo>
                <a:close/>
              </a:path>
              <a:path fill="lightenLess" w="46187" h="21600">
                <a:moveTo>
                  <a:pt x="0" y="0"/>
                </a:moveTo>
                <a:lnTo>
                  <a:pt x="46187" y="0"/>
                </a:lnTo>
                <a:lnTo>
                  <a:pt x="44787" y="1400"/>
                </a:lnTo>
                <a:lnTo>
                  <a:pt x="1400" y="1400"/>
                </a:lnTo>
                <a:close/>
              </a:path>
              <a:path fill="darken" w="46187" h="21600">
                <a:moveTo>
                  <a:pt x="46187" y="0"/>
                </a:moveTo>
                <a:lnTo>
                  <a:pt x="46187" y="21600"/>
                </a:lnTo>
                <a:lnTo>
                  <a:pt x="44787" y="20200"/>
                </a:lnTo>
                <a:lnTo>
                  <a:pt x="44787" y="1400"/>
                </a:lnTo>
                <a:close/>
              </a:path>
              <a:path fill="darkenLess" w="46187" h="21600">
                <a:moveTo>
                  <a:pt x="46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787" y="20200"/>
                </a:lnTo>
                <a:close/>
              </a:path>
              <a:path fill="lighten" w="46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187" h="21600">
                <a:moveTo>
                  <a:pt x="16087" y="10800"/>
                </a:moveTo>
                <a:lnTo>
                  <a:pt x="30100" y="3794"/>
                </a:lnTo>
                <a:lnTo>
                  <a:pt x="30100" y="17806"/>
                </a:ln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Місце для нижнього колонтитула 2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4" descr="j0178279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5"/>
          <p:cNvSpPr/>
          <p:nvPr/>
        </p:nvSpPr>
        <p:spPr>
          <a:xfrm rot="6459600">
            <a:off x="6298920" y="-252396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Text Box 7"/>
          <p:cNvSpPr/>
          <p:nvPr/>
        </p:nvSpPr>
        <p:spPr>
          <a:xfrm>
            <a:off x="826920" y="364500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</a:rPr>
              <a:t>Норма права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b4dcfa"/>
              </a:gs>
              <a:gs pos="100000">
                <a:srgbClr val="eaeaea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marL="318960" indent="-318960" algn="r"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План урока.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46040" y="2060280"/>
            <a:ext cx="8229600" cy="4032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eaeaea"/>
            </a:solidFill>
            <a:miter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rebuchet MS"/>
              </a:rPr>
              <a:t>1. Понятие системы права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rebuchet MS"/>
              </a:rPr>
              <a:t>2. Отрасли права. Материальное и процессуальное право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rebuchet MS"/>
              </a:rPr>
              <a:t>3.Публичное и частное право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5"/>
          <p:cNvSpPr/>
          <p:nvPr/>
        </p:nvSpPr>
        <p:spPr>
          <a:xfrm>
            <a:off x="2392200" y="352440"/>
            <a:ext cx="563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6" name="Rectangle 6" descr=""/>
          <p:cNvPicPr/>
          <p:nvPr/>
        </p:nvPicPr>
        <p:blipFill>
          <a:blip r:embed="rId2"/>
          <a:stretch/>
        </p:blipFill>
        <p:spPr>
          <a:xfrm>
            <a:off x="1116000" y="-103320"/>
            <a:ext cx="7912080" cy="178596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 txBox="1"/>
          <p:nvPr/>
        </p:nvSpPr>
        <p:spPr>
          <a:xfrm>
            <a:off x="250920" y="1484280"/>
            <a:ext cx="84470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направлено на урегулирование общественных отношений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установленное и обеспечиваемое государством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бщеобязательное правило поведения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формально определенное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предоставительно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бязывающий характер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pic>
        <p:nvPicPr>
          <p:cNvPr id="520" name="Rectangle 5" descr=""/>
          <p:cNvPicPr/>
          <p:nvPr/>
        </p:nvPicPr>
        <p:blipFill>
          <a:blip r:embed="rId2"/>
          <a:stretch/>
        </p:blipFill>
        <p:spPr>
          <a:xfrm>
            <a:off x="1189080" y="-438120"/>
            <a:ext cx="8478720" cy="141912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 txBox="1"/>
          <p:nvPr/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1. Регулятивные и правоохранительные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4572000" y="1773360"/>
            <a:ext cx="4572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- Правоохранительные нормы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пределяют условия применения к субъекту мер государственно-принудительного воздействия, характер и содержание этих мер.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Text Box 8"/>
          <p:cNvSpPr/>
          <p:nvPr/>
        </p:nvSpPr>
        <p:spPr>
          <a:xfrm>
            <a:off x="324000" y="1793880"/>
            <a:ext cx="41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егулятивные  норм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пределяющие субъективные права и обязанности субъектов, условия их возникновения и действ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Text Box 9"/>
          <p:cNvSpPr/>
          <p:nvPr/>
        </p:nvSpPr>
        <p:spPr>
          <a:xfrm>
            <a:off x="0" y="4508640"/>
            <a:ext cx="47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Собственнику принадлежат права владения, пользование и распоряжение своим имуществом.»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ГК РФ п.1 Ст. 209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Text Box 10"/>
          <p:cNvSpPr/>
          <p:nvPr/>
        </p:nvSpPr>
        <p:spPr>
          <a:xfrm>
            <a:off x="4500720" y="450864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Кража, т.е. тайное хищение чужого имущества, - наказывается штрафом в размере от 200 до 700 МРОТ…» (УК РФ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.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Ст. 5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7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 txBox="1"/>
          <p:nvPr/>
        </p:nvSpPr>
        <p:spPr>
          <a:xfrm>
            <a:off x="-324000" y="980640"/>
            <a:ext cx="482472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100000"/>
              </a:lnSpc>
              <a:spcBef>
                <a:spcPts val="5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Управомочивающие нормы</a:t>
            </a:r>
            <a:r>
              <a:rPr b="0" i="1" lang="ru-RU" sz="2300" spc="-1" strike="noStrike">
                <a:solidFill>
                  <a:srgbClr val="404040"/>
                </a:solidFill>
                <a:latin typeface="Times New Roman"/>
              </a:rPr>
              <a:t>   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предоставляют субъекту право с положительным содержанием, т.е. право на совершение им тех  или иных действий.</a:t>
            </a:r>
            <a:r>
              <a:rPr b="0" lang="ru-RU" sz="2300" spc="-1" strike="noStrike">
                <a:solidFill>
                  <a:srgbClr val="404040"/>
                </a:solidFill>
                <a:latin typeface="Times New Roman"/>
              </a:rPr>
              <a:t>   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9" name="Text Box 12"/>
          <p:cNvSpPr/>
          <p:nvPr/>
        </p:nvSpPr>
        <p:spPr>
          <a:xfrm>
            <a:off x="0" y="7776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правомочивающие, запрещающие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бязывающие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Text Box 13"/>
          <p:cNvSpPr/>
          <p:nvPr/>
        </p:nvSpPr>
        <p:spPr>
          <a:xfrm>
            <a:off x="5148360" y="1052640"/>
            <a:ext cx="36716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Запрещающие нормы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устанавливает обязанность субъекта на воздержание от  совершения действий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Text Box 14"/>
          <p:cNvSpPr/>
          <p:nvPr/>
        </p:nvSpPr>
        <p:spPr>
          <a:xfrm>
            <a:off x="-324000" y="4797360"/>
            <a:ext cx="94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бязывающие нормы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возлагает на субъекта обязанность совершать определенные действ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Text Box 15"/>
          <p:cNvSpPr/>
          <p:nvPr/>
        </p:nvSpPr>
        <p:spPr>
          <a:xfrm>
            <a:off x="0" y="3213000"/>
            <a:ext cx="46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Собственник вправе по своему усмотрению совершать в отношении принадлежащего ему имущества любые действия, не противоречащие закону…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ГК РФ п. 2 Ст. 209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Text Box 16"/>
          <p:cNvSpPr/>
          <p:nvPr/>
        </p:nvSpPr>
        <p:spPr>
          <a:xfrm>
            <a:off x="4716360" y="2852640"/>
            <a:ext cx="442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Супруги по своему желанию выбирают при заключении брака фамилию…. Соединение фамилии не допускается, если добрачная фамилия хотя бы одного из супругов является двойной.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СК РФ п. 1 Ст. 3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 Box 17"/>
          <p:cNvSpPr/>
          <p:nvPr/>
        </p:nvSpPr>
        <p:spPr>
          <a:xfrm>
            <a:off x="0" y="55897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Трудоспособные совершеннолетние дети обязаны содержать своих нетрудоспособных нуждающихся в помощи родителей и заботиться о них.» (СК РФ п. 1 Ст. 8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8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3"/>
          <p:cNvSpPr/>
          <p:nvPr/>
        </p:nvSpPr>
        <p:spPr>
          <a:xfrm>
            <a:off x="2268360" y="47628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1116000" y="0"/>
            <a:ext cx="7128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3. Императивные и диспозитивные нормы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5007240" y="3141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457200" y="765000"/>
          <a:ext cx="8218440" cy="5904000"/>
        </p:xfrm>
        <a:graphic>
          <a:graphicData uri="http://schemas.openxmlformats.org/drawingml/2006/table">
            <a:tbl>
              <a:tblPr/>
              <a:tblGrid>
                <a:gridCol w="4114800"/>
                <a:gridCol w="4103640"/>
              </a:tblGrid>
              <a:tr h="29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1" name="Text Box 26"/>
          <p:cNvSpPr/>
          <p:nvPr/>
        </p:nvSpPr>
        <p:spPr>
          <a:xfrm>
            <a:off x="468360" y="858960"/>
            <a:ext cx="38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мперативная нор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– это норма, выраженная  в категорических предписаниях и действует независимо от усмотрения субъек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Text Box 27"/>
          <p:cNvSpPr/>
          <p:nvPr/>
        </p:nvSpPr>
        <p:spPr>
          <a:xfrm>
            <a:off x="539640" y="4149720"/>
            <a:ext cx="39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Text Box 28"/>
          <p:cNvSpPr/>
          <p:nvPr/>
        </p:nvSpPr>
        <p:spPr>
          <a:xfrm>
            <a:off x="826920" y="4292640"/>
            <a:ext cx="36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Text Box 29"/>
          <p:cNvSpPr/>
          <p:nvPr/>
        </p:nvSpPr>
        <p:spPr>
          <a:xfrm>
            <a:off x="468360" y="429264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Text Box 30"/>
          <p:cNvSpPr/>
          <p:nvPr/>
        </p:nvSpPr>
        <p:spPr>
          <a:xfrm>
            <a:off x="539640" y="3429000"/>
            <a:ext cx="397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Сделки с землей и другим недвижимым имуществом подлежат государственной регистрации.» (ГК РФ п. 1 Ст.16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4643280" y="141300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Text Box 44"/>
          <p:cNvSpPr/>
          <p:nvPr/>
        </p:nvSpPr>
        <p:spPr>
          <a:xfrm>
            <a:off x="4788000" y="141300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Text Box 45"/>
          <p:cNvSpPr/>
          <p:nvPr/>
        </p:nvSpPr>
        <p:spPr>
          <a:xfrm>
            <a:off x="4716360" y="868320"/>
            <a:ext cx="37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Диспозитивная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  действует лишь постольку, поскольку субъекты не предусмотрели ино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Text Box 47"/>
          <p:cNvSpPr/>
          <p:nvPr/>
        </p:nvSpPr>
        <p:spPr>
          <a:xfrm>
            <a:off x="4643280" y="2421000"/>
            <a:ext cx="41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Замена предмета залога допускается с согласия залогодержателя, если законом или договором не предусмотрено иное.» (ГК РФ п. 1 Ст. 34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Text Box 48"/>
          <p:cNvSpPr/>
          <p:nvPr/>
        </p:nvSpPr>
        <p:spPr>
          <a:xfrm>
            <a:off x="4643280" y="551664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Text Box 49"/>
          <p:cNvSpPr/>
          <p:nvPr/>
        </p:nvSpPr>
        <p:spPr>
          <a:xfrm>
            <a:off x="4500720" y="4365720"/>
            <a:ext cx="435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Законным режимом имущества супругов является режим их совместной собственности. Законный режим имущества супругов действует, если брачным договором не установлено иное.» (СК РФ п. 1 Ст. 3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542880" y="-542880"/>
            <a:ext cx="8508960" cy="15494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0" y="1557000"/>
            <a:ext cx="45813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ервичным элементом выступают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нормы права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, которые объединяются в более крупные образования – институты, подотрасли, отрасл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284720" y="1557000"/>
            <a:ext cx="485928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меет объективный характер, т.к. зависит от объективно существующих общественных отношений, которые призвана регулировать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4220640"/>
            <a:ext cx="443376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лементы системы взаимосвязаны, согласованы, что обеспечивает целостность и единств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211280" y="4265280"/>
            <a:ext cx="4932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бусловлена социально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кономическими, политическими, национальными, культурными и пр. факторам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3" name="Picture 4" descr="j0178279"/>
          <p:cNvPicPr/>
          <p:nvPr/>
        </p:nvPicPr>
        <p:blipFill>
          <a:blip r:embed="rId2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9"/>
          <p:cNvSpPr/>
          <p:nvPr/>
        </p:nvSpPr>
        <p:spPr>
          <a:xfrm>
            <a:off x="181620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0" y="765000"/>
            <a:ext cx="8964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- </a:t>
            </a:r>
            <a:r>
              <a:rPr b="1" i="1" lang="ru-RU" sz="2400" spc="-1" strike="noStrike">
                <a:solidFill>
                  <a:srgbClr val="000066"/>
                </a:solidFill>
                <a:latin typeface="Tahoma"/>
              </a:rPr>
              <a:t>внутренняя структура права, состоящая из взаимосогласованных норм, институтов и отраслей пра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Схема 3" descr=""/>
          <p:cNvPicPr/>
          <p:nvPr/>
        </p:nvPicPr>
        <p:blipFill>
          <a:blip r:embed="rId1"/>
          <a:stretch/>
        </p:blipFill>
        <p:spPr>
          <a:xfrm>
            <a:off x="-182520" y="0"/>
            <a:ext cx="9387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340" name="WordArt 46"/>
          <p:cNvSpPr txBox="1"/>
          <p:nvPr/>
        </p:nvSpPr>
        <p:spPr>
          <a:xfrm>
            <a:off x="108000" y="1052640"/>
            <a:ext cx="252108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Систем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ав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41" name="Text Box 47"/>
          <p:cNvSpPr/>
          <p:nvPr/>
        </p:nvSpPr>
        <p:spPr>
          <a:xfrm>
            <a:off x="3101040" y="765000"/>
            <a:ext cx="5910840" cy="1557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ъективно существующее, внут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ннее строение права, его подраз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ление на отрасли, подотрасли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нституты и норм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48"/>
          <p:cNvSpPr/>
          <p:nvPr/>
        </p:nvSpPr>
        <p:spPr>
          <a:xfrm flipV="1">
            <a:off x="2340000" y="1483920"/>
            <a:ext cx="647640" cy="289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WordArt 49"/>
          <p:cNvSpPr txBox="1"/>
          <p:nvPr/>
        </p:nvSpPr>
        <p:spPr>
          <a:xfrm>
            <a:off x="468360" y="3621240"/>
            <a:ext cx="1655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1.Норм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344" name="Text Box 50"/>
          <p:cNvSpPr/>
          <p:nvPr/>
        </p:nvSpPr>
        <p:spPr>
          <a:xfrm>
            <a:off x="2768400" y="3240000"/>
            <a:ext cx="617760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Элемент системы права. Существу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е обособленно, а в зависимости о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едназначения объединяются в ин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ституты пра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WordArt 52"/>
          <p:cNvSpPr txBox="1"/>
          <p:nvPr/>
        </p:nvSpPr>
        <p:spPr>
          <a:xfrm>
            <a:off x="1187280" y="2492280"/>
            <a:ext cx="6975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Book Antiqua"/>
              </a:rPr>
              <a:t>Система права включает: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Book Antiqua"/>
              <a:ea typeface="Book Antiqua"/>
            </a:endParaRPr>
          </a:p>
        </p:txBody>
      </p:sp>
      <p:sp>
        <p:nvSpPr>
          <p:cNvPr id="346" name="WordArt 54"/>
          <p:cNvSpPr txBox="1"/>
          <p:nvPr/>
        </p:nvSpPr>
        <p:spPr>
          <a:xfrm>
            <a:off x="324000" y="5421240"/>
            <a:ext cx="20872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2.Институ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347" name="Text Box 55"/>
          <p:cNvSpPr/>
          <p:nvPr/>
        </p:nvSpPr>
        <p:spPr>
          <a:xfrm>
            <a:off x="2777760" y="5040360"/>
            <a:ext cx="618372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Основной элемент системы права,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едставленный совокупностью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авовых норм,регулирующих од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ородную группу отноше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AutoShape 57">
            <a:hlinkClick r:id="rId4" action="ppaction://hlinksldjump"/>
          </p:cNvPr>
          <p:cNvSpPr/>
          <p:nvPr/>
        </p:nvSpPr>
        <p:spPr>
          <a:xfrm>
            <a:off x="179280" y="5950080"/>
            <a:ext cx="505080" cy="64764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647640"/>
              <a:gd name="textAreaBottom" fmla="*/ 614880 h 647640"/>
            </a:gdLst>
            <a:ahLst/>
            <a:rect l="textAreaLeft" t="textAreaTop" r="textAreaRight" b="textAreaBottom"/>
            <a:pathLst>
              <a:path w="21600" h="27692">
                <a:moveTo>
                  <a:pt x="0" y="0"/>
                </a:moveTo>
                <a:lnTo>
                  <a:pt x="21600" y="0"/>
                </a:lnTo>
                <a:lnTo>
                  <a:pt x="21600" y="27692"/>
                </a:lnTo>
                <a:lnTo>
                  <a:pt x="0" y="27692"/>
                </a:lnTo>
                <a:close/>
              </a:path>
              <a:path fill="lightenLess" w="21600" h="27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92">
                <a:moveTo>
                  <a:pt x="21600" y="0"/>
                </a:moveTo>
                <a:lnTo>
                  <a:pt x="21600" y="27692"/>
                </a:lnTo>
                <a:lnTo>
                  <a:pt x="20200" y="26292"/>
                </a:lnTo>
                <a:lnTo>
                  <a:pt x="20200" y="1400"/>
                </a:lnTo>
                <a:close/>
              </a:path>
              <a:path fill="darkenLess" w="21600" h="27692">
                <a:moveTo>
                  <a:pt x="21600" y="27692"/>
                </a:moveTo>
                <a:lnTo>
                  <a:pt x="0" y="27692"/>
                </a:lnTo>
                <a:lnTo>
                  <a:pt x="1400" y="26292"/>
                </a:lnTo>
                <a:lnTo>
                  <a:pt x="20200" y="26292"/>
                </a:lnTo>
                <a:close/>
              </a:path>
              <a:path fill="lighten" w="21600" h="27692">
                <a:moveTo>
                  <a:pt x="0" y="27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92"/>
                </a:lnTo>
                <a:close/>
              </a:path>
              <a:path fill="darken" w="21600" h="27692">
                <a:moveTo>
                  <a:pt x="10800" y="68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7692">
                <a:moveTo>
                  <a:pt x="10800" y="72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7692">
                <a:moveTo>
                  <a:pt x="8224" y="11270"/>
                </a:moveTo>
                <a:lnTo>
                  <a:pt x="12088" y="11270"/>
                </a:lnTo>
                <a:lnTo>
                  <a:pt x="12088" y="18268"/>
                </a:lnTo>
                <a:lnTo>
                  <a:pt x="13376" y="18268"/>
                </a:lnTo>
                <a:lnTo>
                  <a:pt x="13376" y="19190"/>
                </a:lnTo>
                <a:lnTo>
                  <a:pt x="8224" y="19190"/>
                </a:lnTo>
                <a:lnTo>
                  <a:pt x="8224" y="18268"/>
                </a:lnTo>
                <a:lnTo>
                  <a:pt x="9512" y="18268"/>
                </a:lnTo>
                <a:lnTo>
                  <a:pt x="9512" y="12175"/>
                </a:lnTo>
                <a:lnTo>
                  <a:pt x="8224" y="12175"/>
                </a:ln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351" name="WordArt 23"/>
          <p:cNvSpPr txBox="1"/>
          <p:nvPr/>
        </p:nvSpPr>
        <p:spPr>
          <a:xfrm>
            <a:off x="357120" y="1143000"/>
            <a:ext cx="208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4.Подотрасль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352" name="Text Box 24"/>
          <p:cNvSpPr/>
          <p:nvPr/>
        </p:nvSpPr>
        <p:spPr>
          <a:xfrm>
            <a:off x="2627280" y="928800"/>
            <a:ext cx="651672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Объединение нескольких институт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одной и той же отрасли прав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Конституционное право (муниципаль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ое, избирательное, парламентское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Text Box 25"/>
          <p:cNvSpPr/>
          <p:nvPr/>
        </p:nvSpPr>
        <p:spPr>
          <a:xfrm>
            <a:off x="287280" y="5661000"/>
            <a:ext cx="89042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Подотрасли права не являются обязательным компонентом отраслей прав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(Семейное, процессуальное право на подотрасли не делятся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 Box 27"/>
          <p:cNvSpPr/>
          <p:nvPr/>
        </p:nvSpPr>
        <p:spPr>
          <a:xfrm>
            <a:off x="2796480" y="3186000"/>
            <a:ext cx="6023880" cy="1922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Основное подразделение системы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ава.Совокупность норм,распре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деленная по правовым институтам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регулирующих особую область от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ошени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Прямоугольник 10"/>
          <p:cNvSpPr/>
          <p:nvPr/>
        </p:nvSpPr>
        <p:spPr>
          <a:xfrm>
            <a:off x="285840" y="342900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Impact"/>
              </a:rPr>
              <a:t>3.Отрасл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358" name="WordArt 9"/>
          <p:cNvSpPr txBox="1"/>
          <p:nvPr/>
        </p:nvSpPr>
        <p:spPr>
          <a:xfrm>
            <a:off x="1835280" y="765000"/>
            <a:ext cx="5572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строение отрасли прав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359" name="Group 20"/>
          <p:cNvGrpSpPr/>
          <p:nvPr/>
        </p:nvGrpSpPr>
        <p:grpSpPr>
          <a:xfrm>
            <a:off x="-133920" y="1197000"/>
            <a:ext cx="4938480" cy="2088360"/>
            <a:chOff x="-133920" y="1197000"/>
            <a:chExt cx="4938480" cy="2088360"/>
          </a:xfrm>
        </p:grpSpPr>
        <p:grpSp>
          <p:nvGrpSpPr>
            <p:cNvPr id="360" name="Group 16"/>
            <p:cNvGrpSpPr/>
            <p:nvPr/>
          </p:nvGrpSpPr>
          <p:grpSpPr>
            <a:xfrm>
              <a:off x="324000" y="1197000"/>
              <a:ext cx="3311280" cy="1152000"/>
              <a:chOff x="324000" y="1197000"/>
              <a:chExt cx="3311280" cy="1152000"/>
            </a:xfrm>
          </p:grpSpPr>
          <p:pic>
            <p:nvPicPr>
              <p:cNvPr id="361" name="WordArt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00" y="1912320"/>
                <a:ext cx="2627280" cy="43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Line 12"/>
              <p:cNvSpPr/>
              <p:nvPr/>
            </p:nvSpPr>
            <p:spPr>
              <a:xfrm flipH="1">
                <a:off x="2843280" y="1197000"/>
                <a:ext cx="792000" cy="78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Text Box 18"/>
            <p:cNvSpPr/>
            <p:nvPr/>
          </p:nvSpPr>
          <p:spPr>
            <a:xfrm>
              <a:off x="-133920" y="2368440"/>
              <a:ext cx="4938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Нормы права, которые распространяются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на все отношения, регулируемые данной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отраслью права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4" name="Group 21"/>
          <p:cNvGrpSpPr/>
          <p:nvPr/>
        </p:nvGrpSpPr>
        <p:grpSpPr>
          <a:xfrm>
            <a:off x="4396680" y="1197000"/>
            <a:ext cx="4970520" cy="2088360"/>
            <a:chOff x="4396680" y="1197000"/>
            <a:chExt cx="4970520" cy="2088360"/>
          </a:xfrm>
        </p:grpSpPr>
        <p:grpSp>
          <p:nvGrpSpPr>
            <p:cNvPr id="365" name="Group 17"/>
            <p:cNvGrpSpPr/>
            <p:nvPr/>
          </p:nvGrpSpPr>
          <p:grpSpPr>
            <a:xfrm>
              <a:off x="4500720" y="1197000"/>
              <a:ext cx="4248000" cy="1079640"/>
              <a:chOff x="4500720" y="1197000"/>
              <a:chExt cx="4248000" cy="1079640"/>
            </a:xfrm>
          </p:grpSpPr>
          <p:sp>
            <p:nvSpPr>
              <p:cNvPr id="366" name="WordArt 11"/>
              <p:cNvSpPr txBox="1"/>
              <p:nvPr/>
            </p:nvSpPr>
            <p:spPr>
              <a:xfrm>
                <a:off x="5292720" y="1919160"/>
                <a:ext cx="3456000" cy="357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0000"/>
                    </a:solidFill>
                    <a:latin typeface="Impact"/>
                  </a:rPr>
                  <a:t>особенная часть</a:t>
                </a:r>
                <a:endPara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Impact"/>
                  <a:ea typeface="Impact"/>
                </a:endParaRPr>
              </a:p>
            </p:txBody>
          </p:sp>
          <p:sp>
            <p:nvSpPr>
              <p:cNvPr id="367" name="Line 15"/>
              <p:cNvSpPr/>
              <p:nvPr/>
            </p:nvSpPr>
            <p:spPr>
              <a:xfrm>
                <a:off x="4500720" y="1197000"/>
                <a:ext cx="792000" cy="792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8" name="Text Box 19"/>
            <p:cNvSpPr/>
            <p:nvPr/>
          </p:nvSpPr>
          <p:spPr>
            <a:xfrm>
              <a:off x="4396680" y="2368440"/>
              <a:ext cx="497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Нормы права, которые распространяются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на конкретные отношения, регулируемые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данной отраслью права.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9" name="WordArt 22"/>
          <p:cNvSpPr txBox="1"/>
          <p:nvPr/>
        </p:nvSpPr>
        <p:spPr>
          <a:xfrm>
            <a:off x="826920" y="3759120"/>
            <a:ext cx="7267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ccffcc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50000">
                      <a:srgbClr val="33cc33"/>
                    </a:gs>
                    <a:gs pos="100000">
                      <a:srgbClr val="008000"/>
                    </a:gs>
                  </a:gsLst>
                  <a:lin ang="5400000"/>
                </a:gradFill>
                <a:latin typeface="Arial"/>
              </a:rPr>
              <a:t>система права характеризуется</a:t>
            </a:r>
            <a:endParaRPr b="1" lang="en-US" sz="1800" spc="1" strike="noStrike">
              <a:ln w="19080">
                <a:solidFill>
                  <a:srgbClr val="ccffcc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50000">
                    <a:srgbClr val="33cc33"/>
                  </a:gs>
                  <a:gs pos="100000">
                    <a:srgbClr val="008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70" name="Text Box 23"/>
          <p:cNvSpPr/>
          <p:nvPr/>
        </p:nvSpPr>
        <p:spPr>
          <a:xfrm>
            <a:off x="506880" y="4613400"/>
            <a:ext cx="823032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-взаимозависимостью и связью правовых нор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-регулирует отношения всей совокупностью юри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дических средст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-целостностью и согласованность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Місце для нижнього колонтитула 2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498920" y="115920"/>
            <a:ext cx="4321080" cy="2421000"/>
          </a:xfrm>
          <a:prstGeom prst="rect">
            <a:avLst/>
          </a:prstGeom>
          <a:solidFill>
            <a:srgbClr val="2127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144360" y="907920"/>
            <a:ext cx="3996000" cy="2449800"/>
          </a:xfrm>
          <a:prstGeom prst="rect">
            <a:avLst/>
          </a:prstGeom>
          <a:solidFill>
            <a:srgbClr val="2127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52000" y="907920"/>
            <a:ext cx="4032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imes New Roman"/>
              </a:rPr>
              <a:t>Материальное право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овокупность  норм, закрепляющих существующие общественные отношения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имущественные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- семейные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- трудовые и проче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(Гражданское прав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Семейное прав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Трудовое право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75" name="Picture 5" descr="j0178279"/>
          <p:cNvPicPr/>
          <p:nvPr/>
        </p:nvPicPr>
        <p:blipFill>
          <a:blip r:embed="rId1"/>
          <a:stretch/>
        </p:blipFill>
        <p:spPr>
          <a:xfrm>
            <a:off x="34920" y="-27000"/>
            <a:ext cx="865080" cy="86508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6"/>
          <p:cNvSpPr/>
          <p:nvPr/>
        </p:nvSpPr>
        <p:spPr>
          <a:xfrm>
            <a:off x="4573440" y="73080"/>
            <a:ext cx="44625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оцессуальное прав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овокупность норм, определяющих порядок осуществления норм материального права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4427640" y="2495520"/>
            <a:ext cx="453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ача ис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роки рассмотр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рава истц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рава ответчик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ядок рассмотрения дела и п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Гражданско-процессуальное прав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головно-процессуальное право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Rectangle 5" descr=""/>
          <p:cNvPicPr/>
          <p:nvPr/>
        </p:nvPicPr>
        <p:blipFill>
          <a:blip r:embed="rId1"/>
          <a:stretch/>
        </p:blipFill>
        <p:spPr>
          <a:xfrm>
            <a:off x="219240" y="-231840"/>
            <a:ext cx="8943840" cy="1500120"/>
          </a:xfrm>
          <a:prstGeom prst="rect">
            <a:avLst/>
          </a:prstGeom>
          <a:ln w="0">
            <a:noFill/>
          </a:ln>
        </p:spPr>
      </p:pic>
      <p:sp>
        <p:nvSpPr>
          <p:cNvPr id="380" name="AutoShape 6"/>
          <p:cNvSpPr/>
          <p:nvPr/>
        </p:nvSpPr>
        <p:spPr>
          <a:xfrm>
            <a:off x="324000" y="765000"/>
            <a:ext cx="4248000" cy="719280"/>
          </a:xfrm>
          <a:prstGeom prst="downArrowCallout">
            <a:avLst>
              <a:gd name="adj1" fmla="val 147661"/>
              <a:gd name="adj2" fmla="val 147648"/>
              <a:gd name="adj3" fmla="val 16667"/>
              <a:gd name="adj4" fmla="val 66667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териальные отрас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AutoShape 7"/>
          <p:cNvSpPr/>
          <p:nvPr/>
        </p:nvSpPr>
        <p:spPr>
          <a:xfrm>
            <a:off x="4643280" y="765000"/>
            <a:ext cx="4248360" cy="719280"/>
          </a:xfrm>
          <a:prstGeom prst="downArrowCallout">
            <a:avLst>
              <a:gd name="adj1" fmla="val 147674"/>
              <a:gd name="adj2" fmla="val 147660"/>
              <a:gd name="adj3" fmla="val 16667"/>
              <a:gd name="adj4" fmla="val 66667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цессуальные отрас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250920" y="1557360"/>
            <a:ext cx="3456000" cy="431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ституцион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250920" y="2108160"/>
            <a:ext cx="3456000" cy="43200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дминистратив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250920" y="2660760"/>
            <a:ext cx="3456000" cy="431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голов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12"/>
          <p:cNvSpPr/>
          <p:nvPr/>
        </p:nvSpPr>
        <p:spPr>
          <a:xfrm>
            <a:off x="250920" y="3213000"/>
            <a:ext cx="3456000" cy="43200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ждан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13"/>
          <p:cNvSpPr/>
          <p:nvPr/>
        </p:nvSpPr>
        <p:spPr>
          <a:xfrm>
            <a:off x="5437080" y="1557360"/>
            <a:ext cx="3456000" cy="647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дминистративн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цессу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Rectangle 14"/>
          <p:cNvSpPr/>
          <p:nvPr/>
        </p:nvSpPr>
        <p:spPr>
          <a:xfrm>
            <a:off x="5437080" y="2276640"/>
            <a:ext cx="3456000" cy="647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головн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цессу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Rectangle 16"/>
          <p:cNvSpPr/>
          <p:nvPr/>
        </p:nvSpPr>
        <p:spPr>
          <a:xfrm>
            <a:off x="5435640" y="2997360"/>
            <a:ext cx="3456000" cy="647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жданск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цессу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WordArt 17"/>
          <p:cNvSpPr txBox="1"/>
          <p:nvPr/>
        </p:nvSpPr>
        <p:spPr>
          <a:xfrm rot="5400000">
            <a:off x="3419280" y="2374560"/>
            <a:ext cx="230508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Базовы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0" name="Rectangle 18"/>
          <p:cNvSpPr/>
          <p:nvPr/>
        </p:nvSpPr>
        <p:spPr>
          <a:xfrm>
            <a:off x="250920" y="400536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мей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Rectangle 24"/>
          <p:cNvSpPr/>
          <p:nvPr/>
        </p:nvSpPr>
        <p:spPr>
          <a:xfrm>
            <a:off x="250920" y="447984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рудов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25"/>
          <p:cNvSpPr/>
          <p:nvPr/>
        </p:nvSpPr>
        <p:spPr>
          <a:xfrm>
            <a:off x="250920" y="495468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еме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26"/>
          <p:cNvSpPr/>
          <p:nvPr/>
        </p:nvSpPr>
        <p:spPr>
          <a:xfrm>
            <a:off x="250920" y="543096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ци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27"/>
          <p:cNvSpPr/>
          <p:nvPr/>
        </p:nvSpPr>
        <p:spPr>
          <a:xfrm>
            <a:off x="250920" y="590544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инансов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Rectangle 28"/>
          <p:cNvSpPr/>
          <p:nvPr/>
        </p:nvSpPr>
        <p:spPr>
          <a:xfrm>
            <a:off x="250920" y="638172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логов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Rectangle 29"/>
          <p:cNvSpPr/>
          <p:nvPr/>
        </p:nvSpPr>
        <p:spPr>
          <a:xfrm>
            <a:off x="5437080" y="4005360"/>
            <a:ext cx="3456000" cy="93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головно-исполните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Rectangle 30"/>
          <p:cNvSpPr/>
          <p:nvPr/>
        </p:nvSpPr>
        <p:spPr>
          <a:xfrm>
            <a:off x="5435640" y="5661000"/>
            <a:ext cx="3456000" cy="936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рбитражно-процессу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WordArt 31"/>
          <p:cNvSpPr txBox="1"/>
          <p:nvPr/>
        </p:nvSpPr>
        <p:spPr>
          <a:xfrm rot="5400000">
            <a:off x="3141360" y="5075280"/>
            <a:ext cx="26636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пециальны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5:29:31Z</dcterms:created>
  <dc:creator>Чернов Алексей</dc:creator>
  <dc:description/>
  <dc:language>en-US</dc:language>
  <cp:lastModifiedBy>LEGION</cp:lastModifiedBy>
  <dcterms:modified xsi:type="dcterms:W3CDTF">2015-01-28T08:32:59Z</dcterms:modified>
  <cp:revision>150</cp:revision>
  <dc:subject/>
  <dc:title>Система пра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